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6C8-F847-43DF-80F5-0DE8362F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596-651F-4EC1-89E8-8AE6C79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ABB-FD6C-4933-9A22-40508A8F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B10-35EC-4B96-9330-463C675D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B68-147E-4CAE-84A6-E665D43C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00E-16E9-41A9-9A69-721D9C2A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C077-0A7D-4047-BCB7-9EA1E7F2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CC34-9239-48D0-B5B8-736C366D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2B8B-EE9D-44BD-8337-E4D8F7D1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36E0-1DC2-4046-915A-1BED3887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0B26-DC14-4BD4-B59E-081C91D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0C5-862D-4329-9E71-B77368A2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3E8-4541-459F-A422-07C7C751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17C2-9FCC-4E1C-9ADC-577CC02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7EB6-B72D-4BEF-A634-CCE8F51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B7D9-11E6-48E3-B34B-1BCCDC20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E6A-78D4-40A3-96C7-24E2F6DD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68C-D206-41D9-9BE2-629C07D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0E4-BC22-4A04-A8BA-79AE2D8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BDE-DEDB-4EF8-905C-89503AF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6C0-5769-4FAC-8425-C1D781E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43F-3B13-431C-80FC-A14A4969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5EC-0DFE-4EFE-87AE-C7C68B3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5EB-34C2-4134-A62E-6772609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7"/>
          <p:cNvGraphicFramePr/>
          <p:nvPr/>
        </p:nvGraphicFramePr>
        <p:xfrm>
          <a:off x="0" y="0"/>
          <a:ext cx="91440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99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0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d6a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02"/>
          <p:cNvSpPr/>
          <p:nvPr/>
        </p:nvSpPr>
        <p:spPr>
          <a:xfrm>
            <a:off x="4572000" y="800280"/>
            <a:ext cx="4572000" cy="44424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0" y="8"/>
                </a:moveTo>
                <a:cubicBezTo>
                  <a:pt x="481" y="40"/>
                  <a:pt x="691" y="18"/>
                  <a:pt x="1486" y="79"/>
                </a:cubicBezTo>
                <a:cubicBezTo>
                  <a:pt x="2284" y="140"/>
                  <a:pt x="2871" y="280"/>
                  <a:pt x="2880" y="280"/>
                </a:cubicBezTo>
                <a:lnTo>
                  <a:pt x="2880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3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678e97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5624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933960" y="659088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755520" y="65512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08F2-E8F9-442E-9614-93E4E71929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Freeform 104"/>
          <p:cNvSpPr/>
          <p:nvPr/>
        </p:nvSpPr>
        <p:spPr>
          <a:xfrm>
            <a:off x="0" y="793800"/>
            <a:ext cx="4572000" cy="444600"/>
          </a:xfrm>
          <a:custGeom>
            <a:avLst/>
            <a:gdLst/>
            <a:ahLst/>
            <a:rect l="l" t="t" r="r" b="b"/>
            <a:pathLst>
              <a:path w="2880" h="280">
                <a:moveTo>
                  <a:pt x="2880" y="16"/>
                </a:moveTo>
                <a:cubicBezTo>
                  <a:pt x="2396" y="48"/>
                  <a:pt x="2233" y="22"/>
                  <a:pt x="1433" y="83"/>
                </a:cubicBezTo>
                <a:cubicBezTo>
                  <a:pt x="631" y="144"/>
                  <a:pt x="66" y="251"/>
                  <a:pt x="0" y="280"/>
                </a:cubicBezTo>
                <a:lnTo>
                  <a:pt x="0" y="0"/>
                </a:lnTo>
                <a:lnTo>
                  <a:pt x="2880" y="16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68"/>
          <p:cNvSpPr/>
          <p:nvPr/>
        </p:nvSpPr>
        <p:spPr>
          <a:xfrm>
            <a:off x="0" y="0"/>
            <a:ext cx="4522680" cy="6010200"/>
          </a:xfrm>
          <a:custGeom>
            <a:avLst/>
            <a:gdLst/>
            <a:ahLst/>
            <a:rect l="l" t="t" r="r" b="b"/>
            <a:pathLst>
              <a:path w="2849" h="3786">
                <a:moveTo>
                  <a:pt x="0" y="0"/>
                </a:moveTo>
                <a:lnTo>
                  <a:pt x="0" y="3456"/>
                </a:lnTo>
                <a:cubicBezTo>
                  <a:pt x="249" y="3613"/>
                  <a:pt x="308" y="3665"/>
                  <a:pt x="550" y="3711"/>
                </a:cubicBezTo>
                <a:cubicBezTo>
                  <a:pt x="756" y="3769"/>
                  <a:pt x="1183" y="3786"/>
                  <a:pt x="1453" y="3731"/>
                </a:cubicBezTo>
                <a:cubicBezTo>
                  <a:pt x="1725" y="3691"/>
                  <a:pt x="1943" y="3590"/>
                  <a:pt x="2147" y="3417"/>
                </a:cubicBezTo>
                <a:cubicBezTo>
                  <a:pt x="2351" y="3244"/>
                  <a:pt x="2561" y="2974"/>
                  <a:pt x="2677" y="2690"/>
                </a:cubicBezTo>
                <a:cubicBezTo>
                  <a:pt x="2793" y="2406"/>
                  <a:pt x="2849" y="2012"/>
                  <a:pt x="2841" y="1715"/>
                </a:cubicBezTo>
                <a:cubicBezTo>
                  <a:pt x="2833" y="1418"/>
                  <a:pt x="2740" y="1135"/>
                  <a:pt x="2631" y="910"/>
                </a:cubicBezTo>
                <a:cubicBezTo>
                  <a:pt x="2498" y="686"/>
                  <a:pt x="2291" y="439"/>
                  <a:pt x="2186" y="367"/>
                </a:cubicBezTo>
                <a:cubicBezTo>
                  <a:pt x="2018" y="239"/>
                  <a:pt x="1886" y="98"/>
                  <a:pt x="1519" y="0"/>
                </a:cubicBez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8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0f4d5b"/>
              </a:gs>
              <a:gs pos="50000">
                <a:srgbClr val="99b4ba"/>
              </a:gs>
              <a:gs pos="100000">
                <a:srgbClr val="0f4d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9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feac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"/>
          <p:cNvSpPr/>
          <p:nvPr/>
        </p:nvSpPr>
        <p:spPr>
          <a:xfrm>
            <a:off x="2251080" y="-11160"/>
            <a:ext cx="6924600" cy="6881760"/>
          </a:xfrm>
          <a:custGeom>
            <a:avLst/>
            <a:gdLst/>
            <a:ahLst/>
            <a:rect l="l" t="t" r="r" b="b"/>
            <a:pathLst>
              <a:path w="4362" h="4335">
                <a:moveTo>
                  <a:pt x="189" y="5"/>
                </a:moveTo>
                <a:lnTo>
                  <a:pt x="561" y="186"/>
                </a:lnTo>
                <a:lnTo>
                  <a:pt x="943" y="494"/>
                </a:lnTo>
                <a:lnTo>
                  <a:pt x="1221" y="960"/>
                </a:lnTo>
                <a:lnTo>
                  <a:pt x="1413" y="1623"/>
                </a:lnTo>
                <a:lnTo>
                  <a:pt x="1290" y="2653"/>
                </a:lnTo>
                <a:lnTo>
                  <a:pt x="0" y="4335"/>
                </a:lnTo>
                <a:lnTo>
                  <a:pt x="4349" y="4335"/>
                </a:lnTo>
                <a:lnTo>
                  <a:pt x="4362" y="0"/>
                </a:lnTo>
                <a:lnTo>
                  <a:pt x="18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391520" y="579132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3"/>
          <p:cNvSpPr/>
          <p:nvPr/>
        </p:nvSpPr>
        <p:spPr>
          <a:xfrm>
            <a:off x="5562720" y="45720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“ </a:t>
            </a:r>
            <a:r>
              <a:rPr b="0" i="1" lang="en-US" sz="1600" spc="-1" strike="noStrike">
                <a:solidFill>
                  <a:srgbClr val="bd6a1f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gradFill rotWithShape="0">
            <a:gsLst>
              <a:gs pos="0">
                <a:srgbClr val="c2c2c2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3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4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61"/>
          <p:cNvSpPr/>
          <p:nvPr/>
        </p:nvSpPr>
        <p:spPr>
          <a:xfrm>
            <a:off x="965160" y="-11160"/>
            <a:ext cx="3822840" cy="6881760"/>
          </a:xfrm>
          <a:custGeom>
            <a:avLst/>
            <a:gdLst/>
            <a:ahLst/>
            <a:rect l="l" t="t" r="r" b="b"/>
            <a:pathLst>
              <a:path w="2408" h="4335">
                <a:moveTo>
                  <a:pt x="858" y="0"/>
                </a:moveTo>
                <a:cubicBezTo>
                  <a:pt x="2020" y="270"/>
                  <a:pt x="2408" y="1631"/>
                  <a:pt x="1984" y="2583"/>
                </a:cubicBezTo>
                <a:cubicBezTo>
                  <a:pt x="1560" y="3535"/>
                  <a:pt x="880" y="3976"/>
                  <a:pt x="0" y="4327"/>
                </a:cubicBezTo>
                <a:lnTo>
                  <a:pt x="1208" y="4335"/>
                </a:lnTo>
                <a:cubicBezTo>
                  <a:pt x="1520" y="4079"/>
                  <a:pt x="2144" y="3343"/>
                  <a:pt x="2272" y="2567"/>
                </a:cubicBezTo>
                <a:cubicBezTo>
                  <a:pt x="2400" y="1791"/>
                  <a:pt x="2278" y="419"/>
                  <a:pt x="998" y="3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acd0c9"/>
              </a:gs>
              <a:gs pos="100000">
                <a:srgbClr val="1b7d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4d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D74-710D-4E26-A673-34146CE237BA}" type="slidenum">
              <a:rPr b="0" lang="en-US" sz="1200" spc="-1" strike="noStrike">
                <a:solidFill>
                  <a:srgbClr val="0f4d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24280" y="23623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f4d5b"/>
                </a:solidFill>
                <a:latin typeface="Arial"/>
              </a:rPr>
              <a:t>PowerPoint</a:t>
            </a:r>
            <a:r>
              <a:rPr b="0" i="1" lang="en-US" sz="4000" spc="-1" strike="noStrike">
                <a:solidFill>
                  <a:srgbClr val="0f4d5b"/>
                </a:solidFill>
                <a:latin typeface="Arial"/>
              </a:rPr>
              <a:t> </a:t>
            </a:r>
            <a:r>
              <a:rPr b="0" i="1" lang="en-US" sz="7200" spc="-1" strike="noStrike">
                <a:solidFill>
                  <a:srgbClr val="0f4d5b"/>
                </a:solidFill>
                <a:latin typeface="Arial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4280" y="393948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3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b7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90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"/>
            <p:cNvSpPr/>
            <p:nvPr/>
          </p:nvSpPr>
          <p:spPr>
            <a:xfrm>
              <a:off x="60494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6182280" y="234936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e4e72"/>
                </a:gs>
                <a:gs pos="50000">
                  <a:srgbClr val="3790d3"/>
                </a:gs>
                <a:gs pos="100000">
                  <a:srgbClr val="1e4e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"/>
            <p:cNvSpPr/>
            <p:nvPr/>
          </p:nvSpPr>
          <p:spPr>
            <a:xfrm>
              <a:off x="6211800" y="2360160"/>
              <a:ext cx="1762200" cy="1777320"/>
            </a:xfrm>
            <a:prstGeom prst="ellipse">
              <a:avLst/>
            </a:prstGeom>
            <a:gradFill rotWithShape="0">
              <a:gsLst>
                <a:gs pos="0">
                  <a:srgbClr val="235b86"/>
                </a:gs>
                <a:gs pos="100000">
                  <a:srgbClr val="3790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"/>
            <p:cNvSpPr/>
            <p:nvPr/>
          </p:nvSpPr>
          <p:spPr>
            <a:xfrm>
              <a:off x="627732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d6a1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"/>
            <p:cNvSpPr/>
            <p:nvPr/>
          </p:nvSpPr>
          <p:spPr>
            <a:xfrm>
              <a:off x="914400" y="220968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1048320" y="234324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663911"/>
                </a:gs>
                <a:gs pos="50000">
                  <a:srgbClr val="bd6a1f"/>
                </a:gs>
                <a:gs pos="100000">
                  <a:srgbClr val="66391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1048320" y="2346480"/>
              <a:ext cx="1765080" cy="1783440"/>
            </a:xfrm>
            <a:prstGeom prst="ellipse">
              <a:avLst/>
            </a:prstGeom>
            <a:gradFill rotWithShape="0">
              <a:gsLst>
                <a:gs pos="0">
                  <a:srgbClr val="784314"/>
                </a:gs>
                <a:gs pos="100000">
                  <a:srgbClr val="bd6a1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1134720" y="243216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5"/>
            <p:cNvGrpSpPr/>
            <p:nvPr/>
          </p:nvGrpSpPr>
          <p:grpSpPr>
            <a:xfrm>
              <a:off x="1160280" y="2456280"/>
              <a:ext cx="1535760" cy="1551600"/>
              <a:chOff x="1160280" y="2456280"/>
              <a:chExt cx="1535760" cy="1551600"/>
            </a:xfrm>
          </p:grpSpPr>
          <p:sp>
            <p:nvSpPr>
              <p:cNvPr id="266" name="Oval 16"/>
              <p:cNvSpPr/>
              <p:nvPr/>
            </p:nvSpPr>
            <p:spPr>
              <a:xfrm>
                <a:off x="116028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7"/>
              <p:cNvSpPr/>
              <p:nvPr/>
            </p:nvSpPr>
            <p:spPr>
              <a:xfrm>
                <a:off x="117972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8"/>
              <p:cNvSpPr/>
              <p:nvPr/>
            </p:nvSpPr>
            <p:spPr>
              <a:xfrm>
                <a:off x="119556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9"/>
              <p:cNvSpPr/>
              <p:nvPr/>
            </p:nvSpPr>
            <p:spPr>
              <a:xfrm>
                <a:off x="127908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20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1b7d6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3482640" y="221544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32156"/>
                  </a:srgbClr>
                </a:gs>
                <a:gs pos="100000">
                  <a:srgbClr val="0d3a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3615120" y="2349360"/>
              <a:ext cx="1763640" cy="1783440"/>
            </a:xfrm>
            <a:prstGeom prst="ellipse">
              <a:avLst/>
            </a:prstGeom>
            <a:gradFill rotWithShape="0">
              <a:gsLst>
                <a:gs pos="0">
                  <a:srgbClr val="0f4439"/>
                </a:gs>
                <a:gs pos="50000">
                  <a:srgbClr val="1b7d6a"/>
                </a:gs>
                <a:gs pos="100000">
                  <a:srgbClr val="0f44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>
              <a:off x="3616560" y="2352600"/>
              <a:ext cx="1762200" cy="1783440"/>
            </a:xfrm>
            <a:prstGeom prst="ellipse">
              <a:avLst/>
            </a:prstGeom>
            <a:gradFill rotWithShape="0">
              <a:gsLst>
                <a:gs pos="0">
                  <a:srgbClr val="114f43"/>
                </a:gs>
                <a:gs pos="100000">
                  <a:srgbClr val="1b7d6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3702960" y="243828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25"/>
            <p:cNvGrpSpPr/>
            <p:nvPr/>
          </p:nvGrpSpPr>
          <p:grpSpPr>
            <a:xfrm>
              <a:off x="3728520" y="2456280"/>
              <a:ext cx="1535760" cy="1551600"/>
              <a:chOff x="3728520" y="2456280"/>
              <a:chExt cx="1535760" cy="1551600"/>
            </a:xfrm>
          </p:grpSpPr>
          <p:sp>
            <p:nvSpPr>
              <p:cNvPr id="276" name="Oval 26"/>
              <p:cNvSpPr/>
              <p:nvPr/>
            </p:nvSpPr>
            <p:spPr>
              <a:xfrm>
                <a:off x="372852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7"/>
              <p:cNvSpPr/>
              <p:nvPr/>
            </p:nvSpPr>
            <p:spPr>
              <a:xfrm>
                <a:off x="374796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"/>
              <p:cNvSpPr/>
              <p:nvPr/>
            </p:nvSpPr>
            <p:spPr>
              <a:xfrm>
                <a:off x="376380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9"/>
              <p:cNvSpPr/>
              <p:nvPr/>
            </p:nvSpPr>
            <p:spPr>
              <a:xfrm>
                <a:off x="384732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0"/>
            <p:cNvGrpSpPr/>
            <p:nvPr/>
          </p:nvGrpSpPr>
          <p:grpSpPr>
            <a:xfrm>
              <a:off x="6305760" y="2456280"/>
              <a:ext cx="1535760" cy="1551600"/>
              <a:chOff x="6305760" y="2456280"/>
              <a:chExt cx="1535760" cy="1551600"/>
            </a:xfrm>
          </p:grpSpPr>
          <p:sp>
            <p:nvSpPr>
              <p:cNvPr id="281" name="Oval 31"/>
              <p:cNvSpPr/>
              <p:nvPr/>
            </p:nvSpPr>
            <p:spPr>
              <a:xfrm>
                <a:off x="6305760" y="2456280"/>
                <a:ext cx="1535760" cy="155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32"/>
              <p:cNvSpPr/>
              <p:nvPr/>
            </p:nvSpPr>
            <p:spPr>
              <a:xfrm>
                <a:off x="6325200" y="2464920"/>
                <a:ext cx="1499040" cy="1513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33"/>
              <p:cNvSpPr/>
              <p:nvPr/>
            </p:nvSpPr>
            <p:spPr>
              <a:xfrm>
                <a:off x="6341040" y="2479680"/>
                <a:ext cx="1425240" cy="1413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34"/>
              <p:cNvSpPr/>
              <p:nvPr/>
            </p:nvSpPr>
            <p:spPr>
              <a:xfrm>
                <a:off x="6424560" y="2519280"/>
                <a:ext cx="1266840" cy="114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37"/>
            <p:cNvSpPr/>
            <p:nvPr/>
          </p:nvSpPr>
          <p:spPr>
            <a:xfrm>
              <a:off x="6109200" y="4616280"/>
              <a:ext cx="193212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1430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790d3"/>
              </a:gs>
              <a:gs pos="100000">
                <a:srgbClr val="1b7d6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1295280" y="1371600"/>
            <a:ext cx="3657600" cy="4181400"/>
            <a:chOff x="1295280" y="1371600"/>
            <a:chExt cx="3657600" cy="4181400"/>
          </a:xfrm>
        </p:grpSpPr>
        <p:sp>
          <p:nvSpPr>
            <p:cNvPr id="295" name="Oval 35"/>
            <p:cNvSpPr/>
            <p:nvPr/>
          </p:nvSpPr>
          <p:spPr>
            <a:xfrm rot="20876400">
              <a:off x="3316320" y="47433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6"/>
            <p:cNvSpPr/>
            <p:nvPr/>
          </p:nvSpPr>
          <p:spPr>
            <a:xfrm>
              <a:off x="3247920" y="35244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37"/>
            <p:cNvSpPr/>
            <p:nvPr/>
          </p:nvSpPr>
          <p:spPr>
            <a:xfrm>
              <a:off x="3268800" y="35337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38"/>
            <p:cNvSpPr/>
            <p:nvPr/>
          </p:nvSpPr>
          <p:spPr>
            <a:xfrm>
              <a:off x="3286080" y="35496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9"/>
            <p:cNvSpPr/>
            <p:nvPr/>
          </p:nvSpPr>
          <p:spPr>
            <a:xfrm>
              <a:off x="3378240" y="35942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40"/>
            <p:cNvSpPr/>
            <p:nvPr/>
          </p:nvSpPr>
          <p:spPr>
            <a:xfrm>
              <a:off x="3665880" y="41511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1"/>
            <p:cNvSpPr/>
            <p:nvPr/>
          </p:nvSpPr>
          <p:spPr>
            <a:xfrm rot="20826600">
              <a:off x="1473120" y="41335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42"/>
            <p:cNvGrpSpPr/>
            <p:nvPr/>
          </p:nvGrpSpPr>
          <p:grpSpPr>
            <a:xfrm>
              <a:off x="1397160" y="3143160"/>
              <a:ext cx="1371240" cy="1441080"/>
              <a:chOff x="1397160" y="3143160"/>
              <a:chExt cx="1371240" cy="1441080"/>
            </a:xfrm>
          </p:grpSpPr>
          <p:sp>
            <p:nvSpPr>
              <p:cNvPr id="303" name="Oval 43"/>
              <p:cNvSpPr/>
              <p:nvPr/>
            </p:nvSpPr>
            <p:spPr>
              <a:xfrm>
                <a:off x="1397160" y="31431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>
                <a:off x="1414800" y="31514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>
                <a:off x="1428120" y="31651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>
                <a:off x="1499760" y="32018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7"/>
              <p:cNvSpPr/>
              <p:nvPr/>
            </p:nvSpPr>
            <p:spPr>
              <a:xfrm>
                <a:off x="1677600" y="36493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Oval 48"/>
            <p:cNvSpPr/>
            <p:nvPr/>
          </p:nvSpPr>
          <p:spPr>
            <a:xfrm>
              <a:off x="1295280" y="23781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9"/>
            <p:cNvSpPr/>
            <p:nvPr/>
          </p:nvSpPr>
          <p:spPr>
            <a:xfrm>
              <a:off x="1371600" y="17715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1384200" y="17762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1"/>
            <p:cNvSpPr/>
            <p:nvPr/>
          </p:nvSpPr>
          <p:spPr>
            <a:xfrm>
              <a:off x="1395360" y="17874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2"/>
            <p:cNvSpPr/>
            <p:nvPr/>
          </p:nvSpPr>
          <p:spPr>
            <a:xfrm>
              <a:off x="1449360" y="18129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3"/>
            <p:cNvSpPr/>
            <p:nvPr/>
          </p:nvSpPr>
          <p:spPr>
            <a:xfrm>
              <a:off x="1568520" y="212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4"/>
            <p:cNvSpPr/>
            <p:nvPr/>
          </p:nvSpPr>
          <p:spPr>
            <a:xfrm>
              <a:off x="2562120" y="19051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5"/>
            <p:cNvSpPr/>
            <p:nvPr/>
          </p:nvSpPr>
          <p:spPr>
            <a:xfrm>
              <a:off x="2684520" y="13716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6"/>
            <p:cNvSpPr/>
            <p:nvPr/>
          </p:nvSpPr>
          <p:spPr>
            <a:xfrm>
              <a:off x="2693880" y="13748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7"/>
            <p:cNvSpPr/>
            <p:nvPr/>
          </p:nvSpPr>
          <p:spPr>
            <a:xfrm>
              <a:off x="2700360" y="13809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58"/>
            <p:cNvSpPr/>
            <p:nvPr/>
          </p:nvSpPr>
          <p:spPr>
            <a:xfrm>
              <a:off x="2736720" y="14000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9"/>
            <p:cNvSpPr/>
            <p:nvPr/>
          </p:nvSpPr>
          <p:spPr>
            <a:xfrm>
              <a:off x="2754720" y="15955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0f4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790d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790d3">
                  <a:alpha val="32156"/>
                </a:srgbClr>
              </a:gs>
              <a:gs pos="100000">
                <a:srgbClr val="19436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e4e72"/>
              </a:gs>
              <a:gs pos="50000">
                <a:srgbClr val="3790d3"/>
              </a:gs>
              <a:gs pos="100000">
                <a:srgbClr val="1e4e7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35b86"/>
              </a:gs>
              <a:gs pos="100000">
                <a:srgbClr val="3790d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0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36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4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49" name="Oval 45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46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47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52" name="Oval 48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49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55" name="Oval 51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52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53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58" name="Oval 54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5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61" name="Oval 57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635a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e6b8"/>
                </a:gs>
                <a:gs pos="100000">
                  <a:srgbClr val="cbba3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143000" y="1828800"/>
            <a:ext cx="2170080" cy="4035600"/>
            <a:chOff x="1143000" y="1828800"/>
            <a:chExt cx="2170080" cy="4035600"/>
          </a:xfrm>
        </p:grpSpPr>
        <p:sp>
          <p:nvSpPr>
            <p:cNvPr id="365" name="AutoShape 4"/>
            <p:cNvSpPr/>
            <p:nvPr/>
          </p:nvSpPr>
          <p:spPr>
            <a:xfrm>
              <a:off x="114300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5"/>
            <p:cNvSpPr/>
            <p:nvPr/>
          </p:nvSpPr>
          <p:spPr>
            <a:xfrm>
              <a:off x="1176480" y="21448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"/>
            <p:cNvSpPr/>
            <p:nvPr/>
          </p:nvSpPr>
          <p:spPr>
            <a:xfrm>
              <a:off x="119376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"/>
            <p:cNvSpPr/>
            <p:nvPr/>
          </p:nvSpPr>
          <p:spPr>
            <a:xfrm>
              <a:off x="119376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8"/>
            <p:cNvSpPr/>
            <p:nvPr/>
          </p:nvSpPr>
          <p:spPr>
            <a:xfrm>
              <a:off x="114948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"/>
            <p:cNvSpPr/>
            <p:nvPr/>
          </p:nvSpPr>
          <p:spPr>
            <a:xfrm>
              <a:off x="119376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0"/>
            <p:cNvGrpSpPr/>
            <p:nvPr/>
          </p:nvGrpSpPr>
          <p:grpSpPr>
            <a:xfrm>
              <a:off x="1887480" y="1828800"/>
              <a:ext cx="642960" cy="642960"/>
              <a:chOff x="1887480" y="1828800"/>
              <a:chExt cx="642960" cy="642960"/>
            </a:xfrm>
          </p:grpSpPr>
          <p:sp>
            <p:nvSpPr>
              <p:cNvPr id="372" name="Oval 11"/>
              <p:cNvSpPr/>
              <p:nvPr/>
            </p:nvSpPr>
            <p:spPr>
              <a:xfrm>
                <a:off x="188748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2"/>
              <p:cNvSpPr/>
              <p:nvPr/>
            </p:nvSpPr>
            <p:spPr>
              <a:xfrm>
                <a:off x="189396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3"/>
              <p:cNvSpPr/>
              <p:nvPr/>
            </p:nvSpPr>
            <p:spPr>
              <a:xfrm>
                <a:off x="190188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"/>
              <p:cNvSpPr/>
              <p:nvPr/>
            </p:nvSpPr>
            <p:spPr>
              <a:xfrm>
                <a:off x="190836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"/>
              <p:cNvSpPr/>
              <p:nvPr/>
            </p:nvSpPr>
            <p:spPr>
              <a:xfrm>
                <a:off x="194220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6"/>
            <p:cNvSpPr/>
            <p:nvPr/>
          </p:nvSpPr>
          <p:spPr>
            <a:xfrm>
              <a:off x="20275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7"/>
            <p:cNvSpPr/>
            <p:nvPr/>
          </p:nvSpPr>
          <p:spPr>
            <a:xfrm>
              <a:off x="121932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8"/>
          <p:cNvGrpSpPr/>
          <p:nvPr/>
        </p:nvGrpSpPr>
        <p:grpSpPr>
          <a:xfrm>
            <a:off x="3505320" y="1828800"/>
            <a:ext cx="2166840" cy="4035600"/>
            <a:chOff x="3505320" y="1828800"/>
            <a:chExt cx="2166840" cy="4035600"/>
          </a:xfrm>
        </p:grpSpPr>
        <p:sp>
          <p:nvSpPr>
            <p:cNvPr id="380" name="AutoShape 19"/>
            <p:cNvSpPr/>
            <p:nvPr/>
          </p:nvSpPr>
          <p:spPr>
            <a:xfrm>
              <a:off x="3505320" y="21366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0"/>
            <p:cNvSpPr/>
            <p:nvPr/>
          </p:nvSpPr>
          <p:spPr>
            <a:xfrm>
              <a:off x="353844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1"/>
            <p:cNvSpPr/>
            <p:nvPr/>
          </p:nvSpPr>
          <p:spPr>
            <a:xfrm>
              <a:off x="3556080" y="42084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2"/>
            <p:cNvSpPr/>
            <p:nvPr/>
          </p:nvSpPr>
          <p:spPr>
            <a:xfrm>
              <a:off x="3556080" y="2166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49800" y="18288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255920" y="18334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4264200" y="18367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4270320" y="18432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4305240" y="18590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438984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358128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0"/>
            <p:cNvSpPr/>
            <p:nvPr/>
          </p:nvSpPr>
          <p:spPr>
            <a:xfrm>
              <a:off x="3508200" y="49942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1"/>
            <p:cNvSpPr/>
            <p:nvPr/>
          </p:nvSpPr>
          <p:spPr>
            <a:xfrm>
              <a:off x="35528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32"/>
          <p:cNvGrpSpPr/>
          <p:nvPr/>
        </p:nvGrpSpPr>
        <p:grpSpPr>
          <a:xfrm>
            <a:off x="5861160" y="1828800"/>
            <a:ext cx="2170080" cy="4035600"/>
            <a:chOff x="5861160" y="1828800"/>
            <a:chExt cx="2170080" cy="4035600"/>
          </a:xfrm>
        </p:grpSpPr>
        <p:sp>
          <p:nvSpPr>
            <p:cNvPr id="394" name="AutoShape 33"/>
            <p:cNvSpPr/>
            <p:nvPr/>
          </p:nvSpPr>
          <p:spPr>
            <a:xfrm>
              <a:off x="5867280" y="21366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4"/>
            <p:cNvSpPr/>
            <p:nvPr/>
          </p:nvSpPr>
          <p:spPr>
            <a:xfrm>
              <a:off x="5900760" y="21448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5"/>
            <p:cNvSpPr/>
            <p:nvPr/>
          </p:nvSpPr>
          <p:spPr>
            <a:xfrm>
              <a:off x="5918040" y="42084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6"/>
            <p:cNvSpPr/>
            <p:nvPr/>
          </p:nvSpPr>
          <p:spPr>
            <a:xfrm>
              <a:off x="5918040" y="21668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7"/>
            <p:cNvGrpSpPr/>
            <p:nvPr/>
          </p:nvGrpSpPr>
          <p:grpSpPr>
            <a:xfrm>
              <a:off x="6611760" y="1828800"/>
              <a:ext cx="642960" cy="642960"/>
              <a:chOff x="6611760" y="1828800"/>
              <a:chExt cx="642960" cy="642960"/>
            </a:xfrm>
          </p:grpSpPr>
          <p:sp>
            <p:nvSpPr>
              <p:cNvPr id="399" name="Oval 38"/>
              <p:cNvSpPr/>
              <p:nvPr/>
            </p:nvSpPr>
            <p:spPr>
              <a:xfrm>
                <a:off x="6611760" y="18288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9"/>
              <p:cNvSpPr/>
              <p:nvPr/>
            </p:nvSpPr>
            <p:spPr>
              <a:xfrm>
                <a:off x="6618240" y="18334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0"/>
              <p:cNvSpPr/>
              <p:nvPr/>
            </p:nvSpPr>
            <p:spPr>
              <a:xfrm>
                <a:off x="6626160" y="18374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1"/>
              <p:cNvSpPr/>
              <p:nvPr/>
            </p:nvSpPr>
            <p:spPr>
              <a:xfrm>
                <a:off x="6632640" y="18432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2"/>
              <p:cNvSpPr/>
              <p:nvPr/>
            </p:nvSpPr>
            <p:spPr>
              <a:xfrm>
                <a:off x="6666480" y="18586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Text Box 43"/>
            <p:cNvSpPr/>
            <p:nvPr/>
          </p:nvSpPr>
          <p:spPr>
            <a:xfrm>
              <a:off x="675216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4"/>
            <p:cNvSpPr/>
            <p:nvPr/>
          </p:nvSpPr>
          <p:spPr>
            <a:xfrm>
              <a:off x="5943600" y="25909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5"/>
            <p:cNvSpPr/>
            <p:nvPr/>
          </p:nvSpPr>
          <p:spPr>
            <a:xfrm>
              <a:off x="5861160" y="49942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6"/>
            <p:cNvSpPr/>
            <p:nvPr/>
          </p:nvSpPr>
          <p:spPr>
            <a:xfrm>
              <a:off x="5905440" y="50180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92"/>
          <p:cNvGrpSpPr/>
          <p:nvPr/>
        </p:nvGrpSpPr>
        <p:grpSpPr>
          <a:xfrm>
            <a:off x="0" y="2824200"/>
            <a:ext cx="9143640" cy="147240"/>
            <a:chOff x="0" y="2824200"/>
            <a:chExt cx="9143640" cy="147240"/>
          </a:xfrm>
        </p:grpSpPr>
        <p:sp>
          <p:nvSpPr>
            <p:cNvPr id="410" name="Rectangle 3"/>
            <p:cNvSpPr/>
            <p:nvPr/>
          </p:nvSpPr>
          <p:spPr>
            <a:xfrm>
              <a:off x="0" y="2824200"/>
              <a:ext cx="914364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0" y="2864520"/>
              <a:ext cx="914364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5"/>
          <p:cNvGrpSpPr/>
          <p:nvPr/>
        </p:nvGrpSpPr>
        <p:grpSpPr>
          <a:xfrm>
            <a:off x="4938840" y="3115080"/>
            <a:ext cx="1512360" cy="2383200"/>
            <a:chOff x="4938840" y="3115080"/>
            <a:chExt cx="1512360" cy="2383200"/>
          </a:xfrm>
        </p:grpSpPr>
        <p:grpSp>
          <p:nvGrpSpPr>
            <p:cNvPr id="413" name="Group 6"/>
            <p:cNvGrpSpPr/>
            <p:nvPr/>
          </p:nvGrpSpPr>
          <p:grpSpPr>
            <a:xfrm>
              <a:off x="4938840" y="3273480"/>
              <a:ext cx="1401480" cy="2224800"/>
              <a:chOff x="4938840" y="3273480"/>
              <a:chExt cx="1401480" cy="2224800"/>
            </a:xfrm>
          </p:grpSpPr>
          <p:sp>
            <p:nvSpPr>
              <p:cNvPr id="414" name="Freeform 7"/>
              <p:cNvSpPr/>
              <p:nvPr/>
            </p:nvSpPr>
            <p:spPr>
              <a:xfrm rot="3876600">
                <a:off x="4524840" y="413928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8"/>
              <p:cNvSpPr/>
              <p:nvPr/>
            </p:nvSpPr>
            <p:spPr>
              <a:xfrm rot="3876600">
                <a:off x="5864400" y="500112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9"/>
            <p:cNvGrpSpPr/>
            <p:nvPr/>
          </p:nvGrpSpPr>
          <p:grpSpPr>
            <a:xfrm>
              <a:off x="5376240" y="3115080"/>
              <a:ext cx="1074960" cy="1707480"/>
              <a:chOff x="5376240" y="3115080"/>
              <a:chExt cx="1074960" cy="1707480"/>
            </a:xfrm>
          </p:grpSpPr>
          <p:sp>
            <p:nvSpPr>
              <p:cNvPr id="417" name="Freeform 10"/>
              <p:cNvSpPr/>
              <p:nvPr/>
            </p:nvSpPr>
            <p:spPr>
              <a:xfrm flipV="1" rot="3876600">
                <a:off x="5058360" y="377892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 flipV="1" rot="3876600">
                <a:off x="6071040" y="44478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12"/>
          <p:cNvGrpSpPr/>
          <p:nvPr/>
        </p:nvGrpSpPr>
        <p:grpSpPr>
          <a:xfrm>
            <a:off x="4521240" y="2292480"/>
            <a:ext cx="1271520" cy="1282680"/>
            <a:chOff x="4521240" y="2292480"/>
            <a:chExt cx="1271520" cy="1282680"/>
          </a:xfrm>
        </p:grpSpPr>
        <p:sp>
          <p:nvSpPr>
            <p:cNvPr id="420" name="Oval 13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"/>
            <p:cNvSpPr/>
            <p:nvPr/>
          </p:nvSpPr>
          <p:spPr>
            <a:xfrm>
              <a:off x="452124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460512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460512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7"/>
            <p:cNvSpPr/>
            <p:nvPr/>
          </p:nvSpPr>
          <p:spPr>
            <a:xfrm>
              <a:off x="465984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8"/>
            <p:cNvGrpSpPr/>
            <p:nvPr/>
          </p:nvGrpSpPr>
          <p:grpSpPr>
            <a:xfrm>
              <a:off x="4675320" y="2448000"/>
              <a:ext cx="963000" cy="973080"/>
              <a:chOff x="4675320" y="2448000"/>
              <a:chExt cx="963000" cy="973080"/>
            </a:xfrm>
          </p:grpSpPr>
          <p:sp>
            <p:nvSpPr>
              <p:cNvPr id="426" name="Oval 19"/>
              <p:cNvSpPr/>
              <p:nvPr/>
            </p:nvSpPr>
            <p:spPr>
              <a:xfrm>
                <a:off x="467532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468720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469764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474984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Group 23"/>
          <p:cNvGrpSpPr/>
          <p:nvPr/>
        </p:nvGrpSpPr>
        <p:grpSpPr>
          <a:xfrm>
            <a:off x="6910560" y="3180240"/>
            <a:ext cx="1512360" cy="2383200"/>
            <a:chOff x="6910560" y="3180240"/>
            <a:chExt cx="1512360" cy="2383200"/>
          </a:xfrm>
        </p:grpSpPr>
        <p:grpSp>
          <p:nvGrpSpPr>
            <p:cNvPr id="431" name="Group 24"/>
            <p:cNvGrpSpPr/>
            <p:nvPr/>
          </p:nvGrpSpPr>
          <p:grpSpPr>
            <a:xfrm>
              <a:off x="6910560" y="3338640"/>
              <a:ext cx="1401480" cy="2224800"/>
              <a:chOff x="6910560" y="3338640"/>
              <a:chExt cx="1401480" cy="2224800"/>
            </a:xfrm>
          </p:grpSpPr>
          <p:sp>
            <p:nvSpPr>
              <p:cNvPr id="432" name="Freeform 25"/>
              <p:cNvSpPr/>
              <p:nvPr/>
            </p:nvSpPr>
            <p:spPr>
              <a:xfrm rot="3876600">
                <a:off x="6496560" y="420444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 rot="3876600">
                <a:off x="7836120" y="506628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7"/>
            <p:cNvGrpSpPr/>
            <p:nvPr/>
          </p:nvGrpSpPr>
          <p:grpSpPr>
            <a:xfrm>
              <a:off x="7347960" y="3180240"/>
              <a:ext cx="1074960" cy="1707480"/>
              <a:chOff x="7347960" y="3180240"/>
              <a:chExt cx="1074960" cy="1707480"/>
            </a:xfrm>
          </p:grpSpPr>
          <p:sp>
            <p:nvSpPr>
              <p:cNvPr id="435" name="Freeform 28"/>
              <p:cNvSpPr/>
              <p:nvPr/>
            </p:nvSpPr>
            <p:spPr>
              <a:xfrm flipV="1" rot="3876600">
                <a:off x="7030080" y="384408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 flipV="1" rot="3876600">
                <a:off x="8042760" y="451296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Oval 30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6300720" y="21510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2"/>
          <p:cNvSpPr/>
          <p:nvPr/>
        </p:nvSpPr>
        <p:spPr>
          <a:xfrm>
            <a:off x="6402240" y="225108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3"/>
          <p:cNvSpPr/>
          <p:nvPr/>
        </p:nvSpPr>
        <p:spPr>
          <a:xfrm>
            <a:off x="6404040" y="225432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4"/>
          <p:cNvSpPr/>
          <p:nvPr/>
        </p:nvSpPr>
        <p:spPr>
          <a:xfrm>
            <a:off x="6469200" y="231948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5"/>
          <p:cNvGrpSpPr/>
          <p:nvPr/>
        </p:nvGrpSpPr>
        <p:grpSpPr>
          <a:xfrm>
            <a:off x="6486480" y="2338560"/>
            <a:ext cx="1158840" cy="1164960"/>
            <a:chOff x="6486480" y="2338560"/>
            <a:chExt cx="1158840" cy="1164960"/>
          </a:xfrm>
        </p:grpSpPr>
        <p:sp>
          <p:nvSpPr>
            <p:cNvPr id="443" name="Oval 36"/>
            <p:cNvSpPr/>
            <p:nvPr/>
          </p:nvSpPr>
          <p:spPr>
            <a:xfrm>
              <a:off x="6486480" y="2338560"/>
              <a:ext cx="1158840" cy="11649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7"/>
            <p:cNvSpPr/>
            <p:nvPr/>
          </p:nvSpPr>
          <p:spPr>
            <a:xfrm>
              <a:off x="6500880" y="2345040"/>
              <a:ext cx="1131120" cy="1136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8"/>
            <p:cNvSpPr/>
            <p:nvPr/>
          </p:nvSpPr>
          <p:spPr>
            <a:xfrm>
              <a:off x="6513120" y="2356200"/>
              <a:ext cx="1075320" cy="1061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9"/>
            <p:cNvSpPr/>
            <p:nvPr/>
          </p:nvSpPr>
          <p:spPr>
            <a:xfrm>
              <a:off x="6576120" y="2385720"/>
              <a:ext cx="956160" cy="86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40"/>
          <p:cNvGrpSpPr/>
          <p:nvPr/>
        </p:nvGrpSpPr>
        <p:grpSpPr>
          <a:xfrm>
            <a:off x="3130920" y="3115440"/>
            <a:ext cx="1511280" cy="2382840"/>
            <a:chOff x="3130920" y="3115440"/>
            <a:chExt cx="1511280" cy="2382840"/>
          </a:xfrm>
        </p:grpSpPr>
        <p:grpSp>
          <p:nvGrpSpPr>
            <p:cNvPr id="448" name="Group 41"/>
            <p:cNvGrpSpPr/>
            <p:nvPr/>
          </p:nvGrpSpPr>
          <p:grpSpPr>
            <a:xfrm>
              <a:off x="3130920" y="3273480"/>
              <a:ext cx="1400760" cy="2224800"/>
              <a:chOff x="3130920" y="3273480"/>
              <a:chExt cx="1400760" cy="2224800"/>
            </a:xfrm>
          </p:grpSpPr>
          <p:sp>
            <p:nvSpPr>
              <p:cNvPr id="449" name="Freeform 42"/>
              <p:cNvSpPr/>
              <p:nvPr/>
            </p:nvSpPr>
            <p:spPr>
              <a:xfrm rot="3876600">
                <a:off x="271656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 rot="3876600">
                <a:off x="405612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44"/>
            <p:cNvGrpSpPr/>
            <p:nvPr/>
          </p:nvGrpSpPr>
          <p:grpSpPr>
            <a:xfrm>
              <a:off x="3567600" y="3115440"/>
              <a:ext cx="1074600" cy="1707120"/>
              <a:chOff x="3567600" y="3115440"/>
              <a:chExt cx="1074600" cy="1707120"/>
            </a:xfrm>
          </p:grpSpPr>
          <p:sp>
            <p:nvSpPr>
              <p:cNvPr id="452" name="Freeform 45"/>
              <p:cNvSpPr/>
              <p:nvPr/>
            </p:nvSpPr>
            <p:spPr>
              <a:xfrm flipV="1" rot="3876600">
                <a:off x="324936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 flipV="1" rot="3876600">
                <a:off x="426204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47"/>
          <p:cNvGrpSpPr/>
          <p:nvPr/>
        </p:nvGrpSpPr>
        <p:grpSpPr>
          <a:xfrm>
            <a:off x="2711520" y="2292480"/>
            <a:ext cx="1271520" cy="1282680"/>
            <a:chOff x="2711520" y="2292480"/>
            <a:chExt cx="1271520" cy="1282680"/>
          </a:xfrm>
        </p:grpSpPr>
        <p:sp>
          <p:nvSpPr>
            <p:cNvPr id="455" name="Oval 48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9"/>
            <p:cNvSpPr/>
            <p:nvPr/>
          </p:nvSpPr>
          <p:spPr>
            <a:xfrm>
              <a:off x="271152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50"/>
            <p:cNvSpPr/>
            <p:nvPr/>
          </p:nvSpPr>
          <p:spPr>
            <a:xfrm>
              <a:off x="279540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51"/>
            <p:cNvSpPr/>
            <p:nvPr/>
          </p:nvSpPr>
          <p:spPr>
            <a:xfrm>
              <a:off x="279540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52"/>
            <p:cNvSpPr/>
            <p:nvPr/>
          </p:nvSpPr>
          <p:spPr>
            <a:xfrm>
              <a:off x="285012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53"/>
            <p:cNvGrpSpPr/>
            <p:nvPr/>
          </p:nvGrpSpPr>
          <p:grpSpPr>
            <a:xfrm>
              <a:off x="2865600" y="2448000"/>
              <a:ext cx="963000" cy="973080"/>
              <a:chOff x="2865600" y="2448000"/>
              <a:chExt cx="963000" cy="973080"/>
            </a:xfrm>
          </p:grpSpPr>
          <p:sp>
            <p:nvSpPr>
              <p:cNvPr id="461" name="Oval 54"/>
              <p:cNvSpPr/>
              <p:nvPr/>
            </p:nvSpPr>
            <p:spPr>
              <a:xfrm>
                <a:off x="286560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55"/>
              <p:cNvSpPr/>
              <p:nvPr/>
            </p:nvSpPr>
            <p:spPr>
              <a:xfrm>
                <a:off x="287748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56"/>
              <p:cNvSpPr/>
              <p:nvPr/>
            </p:nvSpPr>
            <p:spPr>
              <a:xfrm>
                <a:off x="288792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57"/>
              <p:cNvSpPr/>
              <p:nvPr/>
            </p:nvSpPr>
            <p:spPr>
              <a:xfrm>
                <a:off x="294012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58"/>
          <p:cNvGrpSpPr/>
          <p:nvPr/>
        </p:nvGrpSpPr>
        <p:grpSpPr>
          <a:xfrm>
            <a:off x="1379880" y="3115440"/>
            <a:ext cx="1511280" cy="2382840"/>
            <a:chOff x="1379880" y="3115440"/>
            <a:chExt cx="1511280" cy="2382840"/>
          </a:xfrm>
        </p:grpSpPr>
        <p:grpSp>
          <p:nvGrpSpPr>
            <p:cNvPr id="466" name="Group 59"/>
            <p:cNvGrpSpPr/>
            <p:nvPr/>
          </p:nvGrpSpPr>
          <p:grpSpPr>
            <a:xfrm>
              <a:off x="1379880" y="3273480"/>
              <a:ext cx="1400760" cy="2224800"/>
              <a:chOff x="1379880" y="3273480"/>
              <a:chExt cx="1400760" cy="2224800"/>
            </a:xfrm>
          </p:grpSpPr>
          <p:sp>
            <p:nvSpPr>
              <p:cNvPr id="467" name="Freeform 60"/>
              <p:cNvSpPr/>
              <p:nvPr/>
            </p:nvSpPr>
            <p:spPr>
              <a:xfrm rot="3876600">
                <a:off x="965520" y="4139280"/>
                <a:ext cx="222876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 rot="3876600">
                <a:off x="2305080" y="500112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62"/>
            <p:cNvGrpSpPr/>
            <p:nvPr/>
          </p:nvGrpSpPr>
          <p:grpSpPr>
            <a:xfrm>
              <a:off x="1816560" y="3115440"/>
              <a:ext cx="1074600" cy="1707120"/>
              <a:chOff x="1816560" y="3115440"/>
              <a:chExt cx="1074600" cy="1707120"/>
            </a:xfrm>
          </p:grpSpPr>
          <p:sp>
            <p:nvSpPr>
              <p:cNvPr id="470" name="Freeform 63"/>
              <p:cNvSpPr/>
              <p:nvPr/>
            </p:nvSpPr>
            <p:spPr>
              <a:xfrm flipV="1" rot="3876600">
                <a:off x="1498320" y="3780000"/>
                <a:ext cx="171036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64"/>
              <p:cNvSpPr/>
              <p:nvPr/>
            </p:nvSpPr>
            <p:spPr>
              <a:xfrm flipV="1" rot="3876600">
                <a:off x="2511000" y="4448520"/>
                <a:ext cx="26856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65"/>
          <p:cNvGrpSpPr/>
          <p:nvPr/>
        </p:nvGrpSpPr>
        <p:grpSpPr>
          <a:xfrm>
            <a:off x="960480" y="2292480"/>
            <a:ext cx="1271520" cy="1282680"/>
            <a:chOff x="960480" y="2292480"/>
            <a:chExt cx="1271520" cy="1282680"/>
          </a:xfrm>
        </p:grpSpPr>
        <p:sp>
          <p:nvSpPr>
            <p:cNvPr id="473" name="Oval 66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67"/>
            <p:cNvSpPr/>
            <p:nvPr/>
          </p:nvSpPr>
          <p:spPr>
            <a:xfrm>
              <a:off x="960480" y="229248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8"/>
            <p:cNvSpPr/>
            <p:nvPr/>
          </p:nvSpPr>
          <p:spPr>
            <a:xfrm>
              <a:off x="1044360" y="237564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69"/>
            <p:cNvSpPr/>
            <p:nvPr/>
          </p:nvSpPr>
          <p:spPr>
            <a:xfrm>
              <a:off x="1044360" y="2378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0"/>
            <p:cNvSpPr/>
            <p:nvPr/>
          </p:nvSpPr>
          <p:spPr>
            <a:xfrm>
              <a:off x="1099080" y="243216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71"/>
            <p:cNvGrpSpPr/>
            <p:nvPr/>
          </p:nvGrpSpPr>
          <p:grpSpPr>
            <a:xfrm>
              <a:off x="1114560" y="2448000"/>
              <a:ext cx="963000" cy="973080"/>
              <a:chOff x="1114560" y="2448000"/>
              <a:chExt cx="963000" cy="973080"/>
            </a:xfrm>
          </p:grpSpPr>
          <p:sp>
            <p:nvSpPr>
              <p:cNvPr id="479" name="Oval 72"/>
              <p:cNvSpPr/>
              <p:nvPr/>
            </p:nvSpPr>
            <p:spPr>
              <a:xfrm>
                <a:off x="1114560" y="244800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73"/>
              <p:cNvSpPr/>
              <p:nvPr/>
            </p:nvSpPr>
            <p:spPr>
              <a:xfrm>
                <a:off x="1126440" y="245340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74"/>
              <p:cNvSpPr/>
              <p:nvPr/>
            </p:nvSpPr>
            <p:spPr>
              <a:xfrm>
                <a:off x="1136880" y="246276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75"/>
              <p:cNvSpPr/>
              <p:nvPr/>
            </p:nvSpPr>
            <p:spPr>
              <a:xfrm>
                <a:off x="1189080" y="248760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Text Box 76"/>
          <p:cNvSpPr/>
          <p:nvPr/>
        </p:nvSpPr>
        <p:spPr>
          <a:xfrm rot="3925800">
            <a:off x="1331280" y="408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7"/>
          <p:cNvSpPr/>
          <p:nvPr/>
        </p:nvSpPr>
        <p:spPr>
          <a:xfrm rot="3925800">
            <a:off x="1794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8"/>
          <p:cNvSpPr/>
          <p:nvPr/>
        </p:nvSpPr>
        <p:spPr>
          <a:xfrm rot="3925800">
            <a:off x="3080880" y="4080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9"/>
          <p:cNvSpPr/>
          <p:nvPr/>
        </p:nvSpPr>
        <p:spPr>
          <a:xfrm rot="3925800">
            <a:off x="3540600" y="3809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0"/>
          <p:cNvSpPr/>
          <p:nvPr/>
        </p:nvSpPr>
        <p:spPr>
          <a:xfrm rot="3925800">
            <a:off x="4898520" y="408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1"/>
          <p:cNvSpPr/>
          <p:nvPr/>
        </p:nvSpPr>
        <p:spPr>
          <a:xfrm rot="3925800">
            <a:off x="5360040" y="3808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2"/>
          <p:cNvSpPr/>
          <p:nvPr/>
        </p:nvSpPr>
        <p:spPr>
          <a:xfrm rot="3925800">
            <a:off x="6854400" y="42235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3"/>
          <p:cNvSpPr/>
          <p:nvPr/>
        </p:nvSpPr>
        <p:spPr>
          <a:xfrm rot="3925800">
            <a:off x="7312680" y="39528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4"/>
          <p:cNvSpPr/>
          <p:nvPr/>
        </p:nvSpPr>
        <p:spPr>
          <a:xfrm>
            <a:off x="12510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5"/>
          <p:cNvSpPr/>
          <p:nvPr/>
        </p:nvSpPr>
        <p:spPr>
          <a:xfrm>
            <a:off x="300996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6"/>
          <p:cNvSpPr/>
          <p:nvPr/>
        </p:nvSpPr>
        <p:spPr>
          <a:xfrm>
            <a:off x="4759200" y="16398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7"/>
          <p:cNvSpPr/>
          <p:nvPr/>
        </p:nvSpPr>
        <p:spPr>
          <a:xfrm>
            <a:off x="657252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AutoShape 88"/>
          <p:cNvCxnSpPr>
            <a:stCxn id="491" idx="3"/>
            <a:endCxn id="492" idx="1"/>
          </p:cNvCxnSpPr>
          <p:nvPr/>
        </p:nvCxnSpPr>
        <p:spPr>
          <a:xfrm>
            <a:off x="1898280" y="180144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AutoShape 89"/>
          <p:cNvCxnSpPr>
            <a:stCxn id="492" idx="3"/>
            <a:endCxn id="493" idx="1"/>
          </p:cNvCxnSpPr>
          <p:nvPr/>
        </p:nvCxnSpPr>
        <p:spPr>
          <a:xfrm>
            <a:off x="3656160" y="180144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7" name="AutoShape 90"/>
          <p:cNvCxnSpPr>
            <a:stCxn id="493" idx="3"/>
            <a:endCxn id="494" idx="1"/>
          </p:cNvCxnSpPr>
          <p:nvPr/>
        </p:nvCxnSpPr>
        <p:spPr>
          <a:xfrm>
            <a:off x="5406840" y="1801800"/>
            <a:ext cx="107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066680" y="1828800"/>
            <a:ext cx="7162560" cy="3657240"/>
            <a:chOff x="1066680" y="1828800"/>
            <a:chExt cx="7162560" cy="3657240"/>
          </a:xfrm>
        </p:grpSpPr>
        <p:sp>
          <p:nvSpPr>
            <p:cNvPr id="500" name="AutoShape 3"/>
            <p:cNvSpPr/>
            <p:nvPr/>
          </p:nvSpPr>
          <p:spPr>
            <a:xfrm>
              <a:off x="5552640" y="264960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"/>
            <p:cNvSpPr/>
            <p:nvPr/>
          </p:nvSpPr>
          <p:spPr>
            <a:xfrm>
              <a:off x="33094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1066680" y="264960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6"/>
            <p:cNvSpPr/>
            <p:nvPr/>
          </p:nvSpPr>
          <p:spPr>
            <a:xfrm>
              <a:off x="1283400" y="1828800"/>
              <a:ext cx="195048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7"/>
            <p:cNvSpPr/>
            <p:nvPr/>
          </p:nvSpPr>
          <p:spPr>
            <a:xfrm>
              <a:off x="3485880" y="1828800"/>
              <a:ext cx="19519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90d3"/>
                </a:gs>
                <a:gs pos="100000">
                  <a:srgbClr val="19436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5697360" y="1828800"/>
              <a:ext cx="195012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1112040" y="1705320"/>
            <a:ext cx="6437160" cy="1388880"/>
            <a:chOff x="1112040" y="1705320"/>
            <a:chExt cx="6437160" cy="1388880"/>
          </a:xfrm>
        </p:grpSpPr>
        <p:sp>
          <p:nvSpPr>
            <p:cNvPr id="512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4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Rectangle 14"/>
            <p:cNvSpPr/>
            <p:nvPr/>
          </p:nvSpPr>
          <p:spPr>
            <a:xfrm rot="3418800">
              <a:off x="304308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0"/>
            <p:cNvSpPr/>
            <p:nvPr/>
          </p:nvSpPr>
          <p:spPr>
            <a:xfrm rot="3418800">
              <a:off x="4692960" y="18633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d3a3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09720" y="1898640"/>
          <a:ext cx="7396200" cy="3556080"/>
        </p:xfrm>
        <a:graphic>
          <a:graphicData uri="http://schemas.openxmlformats.org/drawingml/2006/table">
            <a:tbl>
              <a:tblPr/>
              <a:tblGrid>
                <a:gridCol w="1477800"/>
                <a:gridCol w="1182600"/>
                <a:gridCol w="1182960"/>
                <a:gridCol w="1185840"/>
                <a:gridCol w="1184040"/>
                <a:gridCol w="118296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f4d5b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d6a1f"/>
                        </a:gs>
                        <a:gs pos="100000">
                          <a:srgbClr val="ddb28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542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80b8e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3574a"/>
                </a:gs>
                <a:gs pos="100000">
                  <a:srgbClr val="1b7d6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a3b"/>
                </a:gs>
                <a:gs pos="100000">
                  <a:srgbClr val="5e561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7310e"/>
                </a:gs>
                <a:gs pos="100000">
                  <a:srgbClr val="bd6a1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1bb99"/>
                </a:gs>
                <a:gs pos="100000">
                  <a:srgbClr val="bd6a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790d3">
                    <a:alpha val="19215"/>
                  </a:srgbClr>
                </a:gs>
                <a:gs pos="100000">
                  <a:srgbClr val="7ab5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d3a31"/>
              </a:gs>
              <a:gs pos="50000">
                <a:srgbClr val="1b7d6a"/>
              </a:gs>
              <a:gs pos="100000">
                <a:srgbClr val="0d3a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6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bd6a1f">
                    <a:alpha val="85098"/>
                  </a:srgbClr>
                </a:gs>
                <a:gs pos="100000">
                  <a:srgbClr val="784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894d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73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85098"/>
                  </a:srgbClr>
                </a:gs>
                <a:gs pos="100000">
                  <a:srgbClr val="114f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145b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80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90d3">
                    <a:alpha val="85098"/>
                  </a:srgbClr>
                </a:gs>
                <a:gs pos="100000">
                  <a:srgbClr val="235b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2868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7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bba3b">
                    <a:alpha val="85098"/>
                  </a:srgbClr>
                </a:gs>
                <a:gs pos="100000">
                  <a:srgbClr val="817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9387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95320"/>
            <a:ext cx="762120" cy="665280"/>
            <a:chOff x="1828800" y="1795320"/>
            <a:chExt cx="762120" cy="665280"/>
          </a:xfrm>
        </p:grpSpPr>
        <p:sp>
          <p:nvSpPr>
            <p:cNvPr id="103" name="AutoShape 4"/>
            <p:cNvSpPr/>
            <p:nvPr/>
          </p:nvSpPr>
          <p:spPr>
            <a:xfrm>
              <a:off x="1834920" y="1806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1828800" y="1795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1873080" y="1834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1828800" y="2709720"/>
            <a:ext cx="761760" cy="665280"/>
            <a:chOff x="1828800" y="2709720"/>
            <a:chExt cx="761760" cy="665280"/>
          </a:xfrm>
        </p:grpSpPr>
        <p:sp>
          <p:nvSpPr>
            <p:cNvPr id="107" name="AutoShape 8"/>
            <p:cNvSpPr/>
            <p:nvPr/>
          </p:nvSpPr>
          <p:spPr>
            <a:xfrm>
              <a:off x="1834920" y="2720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828800" y="27097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1873080" y="27493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11"/>
          <p:cNvSpPr/>
          <p:nvPr/>
        </p:nvSpPr>
        <p:spPr>
          <a:xfrm>
            <a:off x="2438280" y="2405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666880" y="1871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027520" y="1893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438280" y="331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666880" y="27860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027520" y="280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1828800" y="3602160"/>
            <a:ext cx="762120" cy="664920"/>
            <a:chOff x="1828800" y="3602160"/>
            <a:chExt cx="762120" cy="664920"/>
          </a:xfrm>
        </p:grpSpPr>
        <p:sp>
          <p:nvSpPr>
            <p:cNvPr id="117" name="AutoShape 18"/>
            <p:cNvSpPr/>
            <p:nvPr/>
          </p:nvSpPr>
          <p:spPr>
            <a:xfrm>
              <a:off x="1834920" y="3613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9"/>
            <p:cNvSpPr/>
            <p:nvPr/>
          </p:nvSpPr>
          <p:spPr>
            <a:xfrm>
              <a:off x="1828800" y="3602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0"/>
            <p:cNvSpPr/>
            <p:nvPr/>
          </p:nvSpPr>
          <p:spPr>
            <a:xfrm>
              <a:off x="1873080" y="3641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e561b"/>
                </a:gs>
                <a:gs pos="100000">
                  <a:srgbClr val="cbba3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1828800" y="4516560"/>
            <a:ext cx="761760" cy="664920"/>
            <a:chOff x="1828800" y="4516560"/>
            <a:chExt cx="761760" cy="664920"/>
          </a:xfrm>
        </p:grpSpPr>
        <p:sp>
          <p:nvSpPr>
            <p:cNvPr id="121" name="AutoShape 22"/>
            <p:cNvSpPr/>
            <p:nvPr/>
          </p:nvSpPr>
          <p:spPr>
            <a:xfrm>
              <a:off x="1834920" y="4527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"/>
            <p:cNvSpPr/>
            <p:nvPr/>
          </p:nvSpPr>
          <p:spPr>
            <a:xfrm>
              <a:off x="1828800" y="45165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4"/>
            <p:cNvSpPr/>
            <p:nvPr/>
          </p:nvSpPr>
          <p:spPr>
            <a:xfrm>
              <a:off x="1873080" y="45561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25"/>
          <p:cNvSpPr/>
          <p:nvPr/>
        </p:nvSpPr>
        <p:spPr>
          <a:xfrm>
            <a:off x="2438280" y="4211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666880" y="36781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027520" y="37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2438280" y="51260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2666880" y="4592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027520" y="4614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3"/>
          <p:cNvSpPr txBox="1"/>
          <p:nvPr/>
        </p:nvSpPr>
        <p:spPr>
          <a:xfrm>
            <a:off x="4876920" y="3048120"/>
            <a:ext cx="3886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f4d5b"/>
                    </a:gs>
                    <a:gs pos="100000">
                      <a:srgbClr val="bd6a1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f4d5b"/>
                  </a:gs>
                  <a:gs pos="100000">
                    <a:srgbClr val="bd6a1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029200" y="39625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520" y="1455840"/>
            <a:ext cx="77007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f4d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b7d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1b7d6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f4d5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881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219320" y="31701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09680" y="33606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181320" y="30765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ba3b"/>
              </a:gs>
              <a:gs pos="100000">
                <a:srgbClr val="eee9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733280" y="30733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738680" y="30765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1b7d6a"/>
              </a:gs>
              <a:gs pos="100000">
                <a:srgbClr val="b7d6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16080" y="1523880"/>
            <a:ext cx="2827080" cy="1528200"/>
            <a:chOff x="3016080" y="1523880"/>
            <a:chExt cx="2827080" cy="152820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16080" y="1659960"/>
              <a:ext cx="2827080" cy="1392120"/>
              <a:chOff x="3016080" y="1659960"/>
              <a:chExt cx="2827080" cy="139212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46680" y="17042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bd6a1f"/>
                  </a:gs>
                  <a:gs pos="100000">
                    <a:srgbClr val="5c340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16080" y="16599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e2bd9c"/>
                  </a:gs>
                  <a:gs pos="100000">
                    <a:srgbClr val="bd6a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49280" y="15238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0d3a31"/>
                </a:gs>
                <a:gs pos="100000">
                  <a:srgbClr val="1b7d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182400" y="1531080"/>
              <a:ext cx="2466360" cy="1248480"/>
            </a:xfrm>
            <a:prstGeom prst="ellipse">
              <a:avLst/>
            </a:prstGeom>
            <a:gradFill rotWithShape="0">
              <a:gsLst>
                <a:gs pos="0">
                  <a:srgbClr val="1b7d6a">
                    <a:alpha val="0"/>
                  </a:srgbClr>
                </a:gs>
                <a:gs pos="100000">
                  <a:srgbClr val="afd2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07600" y="15436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156354"/>
                </a:gs>
                <a:gs pos="100000">
                  <a:srgbClr val="1b7d6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31800" y="1569240"/>
              <a:ext cx="2068200" cy="94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7d6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770280" y="17146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5054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558720" y="1393920"/>
            <a:ext cx="8294760" cy="5187960"/>
            <a:chOff x="558720" y="1393920"/>
            <a:chExt cx="8294760" cy="5187960"/>
          </a:xfrm>
        </p:grpSpPr>
        <p:sp>
          <p:nvSpPr>
            <p:cNvPr id="151" name="Freeform 4"/>
            <p:cNvSpPr/>
            <p:nvPr/>
          </p:nvSpPr>
          <p:spPr>
            <a:xfrm rot="20241600">
              <a:off x="1271160" y="26157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"/>
            <p:cNvSpPr/>
            <p:nvPr/>
          </p:nvSpPr>
          <p:spPr>
            <a:xfrm rot="20056200">
              <a:off x="4698360" y="24627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 rot="20056200">
              <a:off x="7630560" y="272196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 rot="20056200">
              <a:off x="3059280" y="56541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 rot="20056200">
              <a:off x="5906160" y="502164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 rot="20056200">
              <a:off x="2110680" y="40150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4021200" y="17733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790d3"/>
                </a:gs>
                <a:gs pos="100000">
                  <a:srgbClr val="1332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1490760" y="326448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1b7d6a"/>
                </a:gs>
                <a:gs pos="100000">
                  <a:srgbClr val="0827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2378880" y="49251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bba3b"/>
                </a:gs>
                <a:gs pos="100000">
                  <a:srgbClr val="48421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173200" y="43084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7012800" y="199620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bd6a1f"/>
                </a:gs>
                <a:gs pos="100000">
                  <a:srgbClr val="4125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1755360" y="3711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4362480" y="2220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7"/>
            <p:cNvSpPr/>
            <p:nvPr/>
          </p:nvSpPr>
          <p:spPr>
            <a:xfrm>
              <a:off x="7317000" y="2491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5514480" y="475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2673360" y="5365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3577320" y="35845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>
              <a:off x="2641320" y="22204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2"/>
            <p:cNvCxnSpPr/>
            <p:nvPr/>
          </p:nvCxnSpPr>
          <p:spPr>
            <a:xfrm flipH="1">
              <a:off x="699480" y="22201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0" name="Text Box 23"/>
            <p:cNvSpPr/>
            <p:nvPr/>
          </p:nvSpPr>
          <p:spPr>
            <a:xfrm>
              <a:off x="558720" y="17733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143000" y="1681200"/>
            <a:ext cx="6629400" cy="4035600"/>
            <a:chOff x="1143000" y="1681200"/>
            <a:chExt cx="6629400" cy="4035600"/>
          </a:xfrm>
        </p:grpSpPr>
        <p:sp>
          <p:nvSpPr>
            <p:cNvPr id="173" name="AutoShape 3"/>
            <p:cNvSpPr/>
            <p:nvPr/>
          </p:nvSpPr>
          <p:spPr>
            <a:xfrm>
              <a:off x="3664800" y="390456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3664800" y="3399840"/>
              <a:ext cx="158220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3664800" y="2895480"/>
              <a:ext cx="158220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4160160" y="3113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4160160" y="3617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4160160" y="4122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3016440" y="2679120"/>
              <a:ext cx="504360" cy="19440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14300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121464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6042960" y="21751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f4d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114960" y="23911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>
              <a:off x="5397480" y="2679120"/>
              <a:ext cx="501120" cy="19440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5"/>
            <p:cNvSpPr/>
            <p:nvPr/>
          </p:nvSpPr>
          <p:spPr>
            <a:xfrm>
              <a:off x="3199320" y="1681200"/>
              <a:ext cx="259524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362"/>
                </a:gs>
                <a:gs pos="50000">
                  <a:srgbClr val="3790d3"/>
                </a:gs>
                <a:gs pos="100000">
                  <a:srgbClr val="1943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>
              <a:off x="3633120" y="2319120"/>
              <a:ext cx="165744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4137840" y="181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3231000" y="51292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4137840" y="5348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3612240" y="4552920"/>
              <a:ext cx="16585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27"/>
          <p:cNvGrpSpPr/>
          <p:nvPr/>
        </p:nvGrpSpPr>
        <p:grpSpPr>
          <a:xfrm>
            <a:off x="1143000" y="1905120"/>
            <a:ext cx="6858000" cy="3352320"/>
            <a:chOff x="1143000" y="1905120"/>
            <a:chExt cx="6858000" cy="3352320"/>
          </a:xfrm>
        </p:grpSpPr>
        <p:grpSp>
          <p:nvGrpSpPr>
            <p:cNvPr id="193" name="Group 3"/>
            <p:cNvGrpSpPr/>
            <p:nvPr/>
          </p:nvGrpSpPr>
          <p:grpSpPr>
            <a:xfrm>
              <a:off x="3051000" y="1905120"/>
              <a:ext cx="2966400" cy="2705400"/>
              <a:chOff x="3051000" y="1905120"/>
              <a:chExt cx="2966400" cy="2705400"/>
            </a:xfrm>
          </p:grpSpPr>
          <p:sp>
            <p:nvSpPr>
              <p:cNvPr id="194" name="AutoShape 4"/>
              <p:cNvSpPr/>
              <p:nvPr/>
            </p:nvSpPr>
            <p:spPr>
              <a:xfrm flipH="1" rot="16200000">
                <a:off x="2971080" y="2952000"/>
                <a:ext cx="46188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5"/>
              <p:cNvSpPr/>
              <p:nvPr/>
            </p:nvSpPr>
            <p:spPr>
              <a:xfrm flipH="1" rot="5400000">
                <a:off x="5636160" y="2901240"/>
                <a:ext cx="458640" cy="3027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10800000">
                <a:off x="4305600" y="4304880"/>
                <a:ext cx="4503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f4d5b"/>
                  </a:gs>
                  <a:gs pos="100000">
                    <a:srgbClr val="a1b9b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3354480" y="1905120"/>
                <a:ext cx="23763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489840" y="2040480"/>
                <a:ext cx="21038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612240" y="2166480"/>
                <a:ext cx="18583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90d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613680" y="2166480"/>
                <a:ext cx="18568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736080" y="229140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e72"/>
                  </a:gs>
                  <a:gs pos="50000">
                    <a:srgbClr val="3790d3"/>
                  </a:gs>
                  <a:gs pos="100000">
                    <a:srgbClr val="1e4e7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736080" y="2289960"/>
                <a:ext cx="16124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13"/>
            <p:cNvSpPr/>
            <p:nvPr/>
          </p:nvSpPr>
          <p:spPr>
            <a:xfrm>
              <a:off x="1143000" y="3403080"/>
              <a:ext cx="16966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1143000" y="2903400"/>
              <a:ext cx="16966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2404080"/>
              <a:ext cx="16966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310e"/>
                </a:gs>
                <a:gs pos="50000">
                  <a:srgbClr val="bd6a1f"/>
                </a:gs>
                <a:gs pos="100000">
                  <a:srgbClr val="57310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6233400" y="3403080"/>
              <a:ext cx="176760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233400" y="2903400"/>
              <a:ext cx="176760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233400" y="2404080"/>
              <a:ext cx="176760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d3a31"/>
                </a:gs>
                <a:gs pos="50000">
                  <a:srgbClr val="1b7d6a"/>
                </a:gs>
                <a:gs pos="100000">
                  <a:srgbClr val="0d3a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9"/>
            <p:cNvSpPr/>
            <p:nvPr/>
          </p:nvSpPr>
          <p:spPr>
            <a:xfrm>
              <a:off x="3852000" y="2903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0"/>
            <p:cNvSpPr/>
            <p:nvPr/>
          </p:nvSpPr>
          <p:spPr>
            <a:xfrm>
              <a:off x="2738160" y="4758120"/>
              <a:ext cx="3605400" cy="49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1"/>
            <p:cNvSpPr/>
            <p:nvPr/>
          </p:nvSpPr>
          <p:spPr>
            <a:xfrm>
              <a:off x="161712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61712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61712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6830640" y="255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830640" y="3050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830640" y="3549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914040" y="1828800"/>
            <a:ext cx="7239240" cy="3733920"/>
            <a:chOff x="914040" y="1828800"/>
            <a:chExt cx="7239240" cy="3733920"/>
          </a:xfrm>
        </p:grpSpPr>
        <p:sp>
          <p:nvSpPr>
            <p:cNvPr id="219" name="Freeform 4"/>
            <p:cNvSpPr/>
            <p:nvPr/>
          </p:nvSpPr>
          <p:spPr>
            <a:xfrm>
              <a:off x="7551360" y="1828800"/>
              <a:ext cx="59472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4701600" y="1828800"/>
              <a:ext cx="345168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6952680" y="276480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3843720" y="2764800"/>
              <a:ext cx="3710160" cy="6019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6352560" y="3691800"/>
              <a:ext cx="591840" cy="9414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756400" y="4619880"/>
              <a:ext cx="595800" cy="9428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2138760" y="462528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H="1">
              <a:off x="914040" y="555588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2"/>
            <p:cNvSpPr/>
            <p:nvPr/>
          </p:nvSpPr>
          <p:spPr>
            <a:xfrm flipH="1">
              <a:off x="914400" y="461988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"/>
            <p:cNvSpPr/>
            <p:nvPr/>
          </p:nvSpPr>
          <p:spPr>
            <a:xfrm flipH="1">
              <a:off x="914040" y="369576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4"/>
            <p:cNvSpPr/>
            <p:nvPr/>
          </p:nvSpPr>
          <p:spPr>
            <a:xfrm flipH="1">
              <a:off x="914400" y="2773080"/>
              <a:ext cx="37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914400" y="183528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6"/>
            <p:cNvSpPr/>
            <p:nvPr/>
          </p:nvSpPr>
          <p:spPr>
            <a:xfrm>
              <a:off x="1099080" y="1828800"/>
              <a:ext cx="0" cy="9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>
              <a:off x="1099080" y="279972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1099080" y="3709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>
              <a:off x="1099080" y="46198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2749680" y="2010600"/>
              <a:ext cx="1897560" cy="30330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4707000" y="2431800"/>
              <a:ext cx="2857680" cy="33840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3845160" y="3366720"/>
              <a:ext cx="3114000" cy="33120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2992680" y="369180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2995200" y="4297680"/>
              <a:ext cx="3370320" cy="33120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2137320" y="522828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6"/>
            <p:cNvSpPr/>
            <p:nvPr/>
          </p:nvSpPr>
          <p:spPr>
            <a:xfrm>
              <a:off x="1135080" y="2188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7"/>
            <p:cNvSpPr/>
            <p:nvPr/>
          </p:nvSpPr>
          <p:spPr>
            <a:xfrm>
              <a:off x="1135080" y="3110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8"/>
            <p:cNvSpPr/>
            <p:nvPr/>
          </p:nvSpPr>
          <p:spPr>
            <a:xfrm>
              <a:off x="1135080" y="4074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1135080" y="4970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0" y="1523880"/>
            <a:ext cx="5975280" cy="4496040"/>
          </a:xfrm>
          <a:prstGeom prst="rightArrow">
            <a:avLst>
              <a:gd name="adj1" fmla="val 79306"/>
              <a:gd name="adj2" fmla="val 32917"/>
            </a:avLst>
          </a:prstGeom>
          <a:gradFill rotWithShape="0">
            <a:gsLst>
              <a:gs pos="0">
                <a:srgbClr val="f8fbfa"/>
              </a:gs>
              <a:gs pos="100000">
                <a:srgbClr val="1b7d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88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7d6a"/>
              </a:gs>
              <a:gs pos="100000">
                <a:srgbClr val="0d3a3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488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488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bba3b"/>
              </a:gs>
              <a:gs pos="100000">
                <a:srgbClr val="5e561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574668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8:34Z</dcterms:created>
  <dc:creator>Admin</dc:creator>
  <dc:description/>
  <dc:language>en-US</dc:language>
  <cp:lastModifiedBy>Nga</cp:lastModifiedBy>
  <dcterms:modified xsi:type="dcterms:W3CDTF">2017-09-15T08:57:41Z</dcterms:modified>
  <cp:revision>3</cp:revision>
  <dc:subject/>
  <dc:title> PowerPoint Template</dc:title>
</cp:coreProperties>
</file>